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789-7B40-4C2F-B659-0FB40CB2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6AC-96CF-4213-8A4A-3088B33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732-71AA-4960-938E-A298A46B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A0F-4667-40D9-9A9B-4C21BB3F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8B0-651F-4243-95FE-28E48F0A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6D21-424E-4055-BA07-868C10D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E05-E5EA-4BF1-BFCF-2FA2EDE1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091-656C-4FA4-9958-21F93F4D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C372-D21A-451C-A069-B8DC04F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0F17-4115-46DE-B8A5-ADA3509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A273-2125-49E7-807D-3B2E6B1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5A6-58E5-4018-9D19-2B9E268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017-EBD3-46FA-B563-2BDEAC2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9171-8D54-4183-856A-65A5423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349-10D7-414A-818D-2838ACB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6BF1-EF14-483D-9B9B-F8A1BC54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60C-7DF0-4051-B6F2-950394FD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236-2B66-4BA6-9CBB-1141772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7B0-2424-4000-BCC8-2A007B4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73D-A23D-41F5-957F-36241D8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D6C-BC69-4D4C-AA4E-9541DB2C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097-4A8E-4B40-BA2B-9238552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CF8-19EE-448B-ADC8-A736EFD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2F9-A44D-452F-BFC0-15408AC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2E3-761C-441A-80A2-21991A8CFA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D76D-C762-432A-834E-4532265956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 Perfecto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s corr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correr) en la competenci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mos habl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Nosotros (hablar) con los niños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con las toallas ya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Nos hemos secado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no (volver*) todaví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han vuelto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viv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vivir) aquí por 5 año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8960" y="2927520"/>
            <a:ext cx="71118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ú (escribir*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la tare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has escrito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odavía  yo no (ir) al gimnasio ahor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béis ped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osotros (pedir) una pizza con ques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tra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na (traer*) una pizz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7080" y="146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mos serv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Nosotros (servir)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mir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mirar) la película 2 vec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han toca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64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Tú(tocar) la guitarra y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camin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Mi perro(caminar)y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hech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hacer) la tarea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llama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me (llamar) por teléfon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nos(decir)el secreto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has dicho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vis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odavía yo no(ver) el video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o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os (oír*) la canción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cant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 cantar) Feliz Cumpleañ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pues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los ya (poner) la mesa para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he levant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temprano para ir a la escuel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s com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comer) la sopa para almuerz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ha maquilla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Mi amiga ya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le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leer*) el libro “Night”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béis trabaj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trabajar) allí por 3 años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prepara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a ( preparar)los taco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Meg</cp:lastModifiedBy>
  <cp:lastPrinted>2009-04-22T19:24:48Z</cp:lastPrinted>
  <dcterms:modified xsi:type="dcterms:W3CDTF">2014-02-02T15:23:24Z</dcterms:modified>
  <cp:revision>25</cp:revision>
  <dc:subject/>
  <dc:title>PowerPoint Presentation</dc:title>
</cp:coreProperties>
</file>